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16.jpeg" ContentType="image/jpeg"/>
  <Override PartName="/ppt/media/wind.wav" ContentType="audio/x-wav"/>
  <Override PartName="/ppt/media/image12.jpeg" ContentType="image/jpeg"/>
  <Override PartName="/ppt/media/image15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laser.wav" ContentType="audio/x-wav"/>
  <Override PartName="/ppt/media/image4.jpeg" ContentType="image/jpeg"/>
  <Override PartName="/ppt/media/image1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FC2F-5288-47A9-930C-636A2277AA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5051-8E8B-4706-A776-CBDA5D129DE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BEF-2881-4854-A42B-110B1DAA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14C-A5CE-4439-A6D9-3F80774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2D8-358F-4CB8-95B4-D11990DF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4FC-162F-4343-A03C-9027539A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D395-EE8A-4B11-A200-7023E6FB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587-B5AB-4217-8D66-5D1F6F8F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34C7-3218-4FF4-AA3A-FE80482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3A3F-2592-4240-9D41-8CBD999A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741F-3818-4301-BE71-AA5152D5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EC8E-32BE-4D11-9648-F7A4225C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834-5EC8-40A7-8A45-08EDE8F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A46-2338-4EFD-9BAF-6C04FB4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D5B3-92BC-4D43-9173-ED48010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8DF-DD8E-4803-BC48-14E34E0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CB1-B7F6-4A0D-AB30-1C477E9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44A2-2D0E-4ED5-B0C8-0DF61C3C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C967-CC43-49F7-AB8B-748313E2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B58-214C-40DF-8FAF-CC06B655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EC4-4A3E-46A2-BE5B-4495EC66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1FF-5D3F-42B6-8FBB-3BDE1F7E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4BE-D3B1-4594-BF58-007EA300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19E-5060-4F11-9B05-1434779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D3D-BBBD-44C4-8FE0-856F2A1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A04-2573-4960-9980-E552DC1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54C-9F54-4672-BE56-74D7536095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CF8-E313-4422-AF46-2BEA667C63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5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6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7" descr="http://t3.gstatic.com/images?q=tbn:ANd9GcSELAMPGTLf-YyiFNWskzcN3QHp8wgvE02cal00Dza5ecMVCeFv"/>
          <p:cNvPicPr/>
          <p:nvPr/>
        </p:nvPicPr>
        <p:blipFill>
          <a:blip r:embed="rId1"/>
          <a:stretch/>
        </p:blipFill>
        <p:spPr>
          <a:xfrm>
            <a:off x="685800" y="114300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15" descr="http://t1.gstatic.com/images?q=tbn:ANd9GcTyxYa-f3CEnibGYexTF4Sof0M4tVNsF6QM2oA-M-ipi-v6IVg3Wg"/>
          <p:cNvPicPr/>
          <p:nvPr/>
        </p:nvPicPr>
        <p:blipFill>
          <a:blip r:embed="rId2"/>
          <a:stretch/>
        </p:blipFill>
        <p:spPr>
          <a:xfrm>
            <a:off x="5867280" y="114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3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1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4" descr="http://t1.gstatic.com/images?q=tbn:ANd9GcRAlRH6_JF5cTml1-166vc2ZAjV8Hsb2hFqKPBNGHMULcckOH7xb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http://t3.gstatic.com/images?q=tbn:ANd9GcQrAerm14nb-BZU2l2kSMlqHK7SlIktJV1Zck1y2FOacLooI4kGkjuAW6NcBQ"/>
          <p:cNvPicPr/>
          <p:nvPr/>
        </p:nvPicPr>
        <p:blipFill>
          <a:blip r:embed="rId2"/>
          <a:stretch/>
        </p:blipFill>
        <p:spPr>
          <a:xfrm>
            <a:off x="2362320" y="1371600"/>
            <a:ext cx="4190760" cy="3200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lackadder ITC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lackadder ITC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0" descr="http://t2.gstatic.com/images?q=tbn:ANd9GcTmHhecxNYF-oN6Z9oOtV9KWl9UIoyzlLo8tQ-fGOMOu-lCJjFtAQ"/>
          <p:cNvPicPr/>
          <p:nvPr/>
        </p:nvPicPr>
        <p:blipFill>
          <a:blip r:embed="rId3"/>
          <a:stretch/>
        </p:blipFill>
        <p:spPr>
          <a:xfrm>
            <a:off x="2362320" y="1447920"/>
            <a:ext cx="4190760" cy="31953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  <p:sndAc>
      <p:stSnd>
        <p:snd r:embed="rId4" name="wind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Only 15% of the urban population breathes clean, safe ai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Factories put most of the toxic substances in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Acid rain from Europe and Siberia has shortened the Siberian forests’ size by an estimated 730,000 hectares</a:t>
            </a: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11430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 rot="19654800">
            <a:off x="1415880" y="27399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7"/>
          <p:cNvSpPr/>
          <p:nvPr/>
        </p:nvSpPr>
        <p:spPr>
          <a:xfrm rot="19483800">
            <a:off x="1402560" y="273996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8"/>
          <p:cNvSpPr/>
          <p:nvPr/>
        </p:nvSpPr>
        <p:spPr>
          <a:xfrm rot="19345200">
            <a:off x="3105000" y="27795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1" name="coin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285 -0.09606 C 0.06649 -0.16759 0.07517 -0.23333 0.08264 -0.30393 C 0.08715 -0.34583 0.08889 -0.38773 0.09462 -0.42939 C 0.09722 -0.47523 0.09809 -0.5206 0.09931 -0.56666 C 0.09965 -0.57685 0.09983 -0.58703 0.10069 -0.59699 C 0.10139 -0.60439 0.09826 -0.61782 0.10382 -0.61921 C 0.13559 -0.62754 0.1684 -0.62175 0.20069 -0.62314 C 0.20781 -0.628 0.21111 -0.63449 0.21736 -0.64143 C 0.2184 -0.6456 0.2217 -0.64907 0.22205 -0.65347 C 0.22847 -0.75115 0.21944 -0.6905 0.225 -0.72615 C 0.22552 -0.73842 0.22622 -0.75046 0.22656 -0.76273 C 0.22917 -0.84745 0.23941 -0.83125 0.17656 -0.83125 E">
                                      <p:cBhvr>
                                        <p:cTn id="54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See full size 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Lowest recorded temperature is -93°C (THAT’S REALLY COLD!!!!)</a:t>
            </a:r>
            <a:r>
              <a:rPr b="0" lang="en-US" sz="2400" spc="-1" strike="noStrike">
                <a:solidFill>
                  <a:srgbClr val="cc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In the winter, some of the land is in total darkness for over six months of th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Capital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Largest City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Area: 17, 075, 400 sq km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Official Languages: Russian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Government: Semi-presidential Federal Republic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esident – Vladimir Putin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ime Minister - Mikhail Fradkov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opulation: 142, 400, 000 (2006 est</a:t>
            </a:r>
            <a:r>
              <a:rPr b="0" lang="en-US" sz="2400" spc="-1" strike="noStrike">
                <a:solidFill>
                  <a:srgbClr val="ccff66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2" name="push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77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77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4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80880" y="3049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None we did this for fre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1981080" y="20574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20T15:54:01Z</dcterms:modified>
  <cp:revision>26</cp:revision>
  <dc:subject/>
  <dc:title>Present Day Russia</dc:title>
</cp:coreProperties>
</file>